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464-0CAF-4FEA-AFBA-E34DFC58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738-E2E4-4003-B082-507369F1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654-A1D5-4159-AB56-E77555EC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909-55FA-4D50-B203-83377ED9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7BA-D4D0-4CC9-8A39-72BB80EF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12DF-DBB1-448D-8B66-EA0CDB1D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4ECA-05D4-4B86-8370-FBBBCE65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F2CE-DFC8-4FBB-AF13-AD88098A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A8F6-7CB8-4CBE-9873-0304106C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88C8-DD36-400B-8674-5FCA94F0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FE94-0B99-41ED-A3BF-E65AB92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8B0-6D6A-41E7-BC66-319A45D4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8304-DA94-4FCD-9D6D-2D9DCA19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8F72-5AA8-4055-A8C8-25642B1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4F5-6A9A-439A-80EC-4B7589C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0ECE-F1E4-44BA-9925-6848D7E6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733D-9E11-4ECD-BC8E-C0685A0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97DD-773E-48D9-8CBB-9BBB6631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C927-DEAE-4DBF-9E07-944F61B5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14C3-FD03-45EF-A007-C16A83BB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FD7C-FA18-4198-A098-9B5DF78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82A2-97DA-4D12-A4BD-C327135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76E-8D8A-4F95-A604-B63E6F0F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3E71-C532-4BFB-B963-5CE9CEA5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4546-D0A6-4E69-8CFE-C4A7E3A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312D-2C9C-449A-986F-B3DE76A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A788-EFFF-4B82-A8CB-EA5ABAA7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7C24-0D6D-47A3-9611-3AE5F3DD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9D26-257B-4B79-AE67-24C06272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54EE-4DFB-410E-A452-BE34AA0F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E543-4F10-4480-9419-E44C3BAE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4066-9673-4919-A281-12304CDD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B16D-2AC3-431C-91AF-E0809A8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A23-61AB-4275-83E6-07FC0250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8E92-7583-48E4-B6FA-9CF7252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A8D8-C88D-4EAA-84AD-FB8B1C2F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14343-5EBF-46A9-BB16-863502B2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7BE3-CEF3-40DF-897C-B839CF7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BA3F-17C2-418D-80AB-623CE844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9068-51A0-41FD-AC14-6EC4ED5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D477-1009-439E-9103-A291DFA4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8D138-BF13-4ED9-94DC-D280D9E1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71B6-8846-4C29-9864-345A3E59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26386-A26B-4F09-A37D-49E35207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C7A-6396-482B-926B-5B718DF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D7C2-13C7-4FA6-9C1B-7C64CE78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742D6-0B5F-48FE-BB2B-6D3061E6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30B5C-BBA4-41A6-965F-8F450285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25847-4778-45B4-813B-664593B3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E7C8-8041-4ED9-BB0B-70AC2150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634CE-2274-4640-961B-F286ADB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0607-6058-4948-BF4F-318E870E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10BF4-D488-4736-AC81-33988A3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1A90-DEA6-4C2B-B151-8D180A2E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8491-A999-490C-832A-002A582B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B00-6A22-4B54-85F3-0393465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75924-1119-4F17-AAE7-FC779659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5E4-7980-494B-8FCB-7B60C3F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974-3BE8-4CBF-8C56-ACAB9643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7D7-5CFB-4B97-9C12-7E8F94B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553B-2192-4A59-ADF1-E6B4FD0674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64F-E4B0-4A30-A9F5-EACD626EE82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B57F-4E0A-4369-B497-09928AC949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ED4E-3A5B-45E2-AE94-4C683121F6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808-17F1-4D19-A202-6514B5AA01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Arial Black"/>
              </a:rPr>
              <a:t>JODELJIM M. GUMAPA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Arial Black"/>
                <a:ea typeface="Arial"/>
              </a:rPr>
              <a:t>GRADE 6, ROOM 6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Arial Black"/>
                <a:ea typeface="Arial"/>
              </a:rPr>
              <a:t>June 6, 2011 to March 19, 201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shley Crawford"/>
              </a:rPr>
              <a:t>ILIGAN CITY SDA ELEMENTARY SCHOOL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Franklin Gothic Book"/>
              </a:rPr>
              <a:t>Class Policies and Rules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the Philippine Archipelago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tional Hero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gnificant Events in histor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C:\Users\mcgrey\Desktop\001_1921.jpg"/>
          <p:cNvPicPr/>
          <p:nvPr/>
        </p:nvPicPr>
        <p:blipFill>
          <a:blip r:embed="rId1"/>
          <a:stretch/>
        </p:blipFill>
        <p:spPr>
          <a:xfrm>
            <a:off x="4572000" y="1905120"/>
            <a:ext cx="4289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Social Studies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the Philippine Archipelago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tional Hero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ignificant Events in histor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2" descr="C:\Users\mcgrey\Desktop\001_1921.jpg"/>
          <p:cNvPicPr/>
          <p:nvPr/>
        </p:nvPicPr>
        <p:blipFill>
          <a:blip r:embed="rId1"/>
          <a:stretch/>
        </p:blipFill>
        <p:spPr>
          <a:xfrm>
            <a:off x="4572000" y="1905120"/>
            <a:ext cx="4289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Science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5288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/Philosophy of Scienc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Life Scienc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hysical Scienc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C:\Users\mcgrey\Desktop\office_nerd_-_abstract_CoolClips_peop2425.jpg"/>
          <p:cNvPicPr/>
          <p:nvPr/>
        </p:nvPicPr>
        <p:blipFill>
          <a:blip r:embed="rId1"/>
          <a:stretch/>
        </p:blipFill>
        <p:spPr>
          <a:xfrm>
            <a:off x="914400" y="1447920"/>
            <a:ext cx="35719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Mathematics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288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Mathematic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ercent, Fraction and decimal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troduction of Integers and exponen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2" descr="C:\Users\mcgrey\Desktop\images.jpg"/>
          <p:cNvPicPr/>
          <p:nvPr/>
        </p:nvPicPr>
        <p:blipFill>
          <a:blip r:embed="rId1"/>
          <a:stretch/>
        </p:blipFill>
        <p:spPr>
          <a:xfrm>
            <a:off x="1066680" y="1905120"/>
            <a:ext cx="37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Languages and Art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History of langua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Reading and writings skill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Oral communic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C:\Users\mcgrey\Desktop\language-arts-reading-material.jpg"/>
          <p:cNvPicPr/>
          <p:nvPr/>
        </p:nvPicPr>
        <p:blipFill>
          <a:blip r:embed="rId1"/>
          <a:stretch/>
        </p:blipFill>
        <p:spPr>
          <a:xfrm>
            <a:off x="4572000" y="1828800"/>
            <a:ext cx="4035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Franklin Gothic Book"/>
              </a:rPr>
              <a:t>Values Education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52388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haracter and ethic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ocial responsibilit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80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Picture 2" descr="C:\Users\mcgrey\Desktop\Values-Education-Show-for-Queensland-Schools-The-THUMB-Show-82787_image.jpg"/>
          <p:cNvPicPr/>
          <p:nvPr/>
        </p:nvPicPr>
        <p:blipFill>
          <a:blip r:embed="rId1"/>
          <a:stretch/>
        </p:blipFill>
        <p:spPr>
          <a:xfrm>
            <a:off x="4937040" y="1828800"/>
            <a:ext cx="36734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440" y="32004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Perpetua"/>
              </a:rPr>
              <a:t>After the class duration, the students is expected to learn the subject matter for the sixth grade curriculum and be prepared for the seventh grade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ranklin Gothic Book"/>
              </a:rPr>
              <a:t>Goals and Objectives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1:56:57Z</dcterms:created>
  <dc:creator>mcgrey</dc:creator>
  <dc:description/>
  <dc:language>en-US</dc:language>
  <cp:lastModifiedBy>mcgrey</cp:lastModifiedBy>
  <dcterms:modified xsi:type="dcterms:W3CDTF">2011-10-03T05:02:59Z</dcterms:modified>
  <cp:revision>18</cp:revision>
  <dc:subject/>
  <dc:title>ILIGAN CITY SDA ELEMENTARY SCHOOL</dc:title>
</cp:coreProperties>
</file>